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A80D-A51D-4E5E-8A51-AEFA9E6B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90D-A04A-4E8A-9D9D-C2F944B1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DBC-38C3-4F63-98AD-36D26327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F92-0664-440C-B4BB-ED88D10D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9EE-4C70-40EC-937E-E14D9CA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1CB-7697-4FE1-94D1-536DB472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796-9493-41F9-BDD7-04067CA3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02A-BCF9-476D-B1BF-35814C04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49A-B0D0-4077-A38F-886512EB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A74-EE3A-4E43-9528-B8392300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967-A4F5-4D90-AA48-768F394A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628-AD76-40E7-9DA3-55AD85BE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3AFF-83DB-46C9-A255-D444316B85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1 2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 de Vries</cp:lastModifiedBy>
  <dcterms:modified xsi:type="dcterms:W3CDTF">2003-07-04T14:16:03Z</dcterms:modified>
  <cp:revision>1</cp:revision>
  <dc:subject/>
  <dc:title>PowerPoint Presentation</dc:title>
</cp:coreProperties>
</file>